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664-2155-44FC-8853-05549A81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F9B-6231-4CBF-BC61-80011FE0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1C5-63A0-4D13-9C2C-5A5986BF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B20-7899-46CB-95F8-3E33CF2B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00ED-A81B-4586-860B-E1EE6A0B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7182-8336-4A51-8079-05163CC1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0F15-E464-45DB-9FCB-3892FD95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8BBC-38B0-45FC-91A3-C3365A0E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7A9B-0D8C-45DF-B2D8-96FEE9CF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D48A-D69E-4A3F-9232-37F49FD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33B4-F049-4E70-909F-77AEE5BD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F02-73F2-44BE-83BB-7808F0E6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843A-5555-43E6-962A-EE0DA9ED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51BD-FFA3-46A8-870E-3E3D951D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6262-9913-4B82-A69A-3C165B7D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DF8B-8974-4446-BABA-E0C7DF48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573E-D091-419D-9079-8B2D800F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4E2-9E68-4EBF-A2A4-3A1346F1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43F-3025-4EE7-AE7F-53CAA36F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663-2E59-46BA-BE79-15C5EDB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649-2289-4172-8B99-7D5F9E3F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D6A-937A-417B-A453-75714A86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3E1-6147-42AA-9751-DB4A000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528-202C-4DF1-87DD-6546644F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F22F-3ACE-4C8F-ABE4-D35CE03F58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828-59AC-4B79-9D27-BF72721B92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ыполнила Пешкина Наталь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636 групп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838080"/>
            <a:ext cx="6191280" cy="32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спорта комнатных расте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Бальзамин султанский (семейство Бальзаминовые)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5410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на – тропики Африки. Неприхотливое, обильно цветущее растение небольшого размера с сильно ветвящимися светло-зелеными сочными полупрозрачными стеблями. На их находятся небольшие поочередно расположенные светлые блестящие листья яйцевидной формы, на длинных черешках; край листа зубчатый. Бальзамин комнатный обильно и продолжительно цветет ярко розовыми или малиновыми цветками, реже лилиловыми или белыми, простыми или махровыми, имеющими шпорец. Бальзамин светолюбивое быстро растущее растение, развивается в любой почве, но предпочитает легкую питательную земляную смесь. Поливают бальзамин зимой умеренно, летом обильно; притеняют от прямых солнечных лучей. Бальзамины быстро стареют и требуют омоложения. Бальзамин размножается семенами и черенками, которые легко приживаютс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63363" t="65982" r="5146" b="7508"/>
          <a:stretch/>
        </p:blipFill>
        <p:spPr>
          <a:xfrm>
            <a:off x="6400800" y="2438280"/>
            <a:ext cx="237024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Бегония Рекс, королевская (семейство Бегониевые)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5257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одина – остров Ява. Это самая красивая из декоративно-лиственных бегоний. Невысокие растения с ползучим извивающимся свисающим стеблем, на котором видны многочисленные следы от опавших листьев. Листья крупные, очень красиво окрашенные – у некоторых сортов они темно-бордовые с серебристыми пятнами, у других серебристо-розовые, изумрудно-зеленые с темно-красной каймой, буроватые с серебристым оттенком. Края листьев ровные или изрезанные. Листья расположены на длинных черешках, покрыты редкими жесткими ворсинками. Цветет бегония мелкими светлыми цветочками. Сажают бегонию в неглубокий горшок с легкой земляной смесью, состоящей из листовой, перегнойной, торфяной земли и песка в соотношении 1:2:1:2.  Поливают бегонию летом обильно, зимой умеренно, желательно теплой водой. Размножается делением корневища с пучками листьев, листовыми черенками или листом, срезанным и поставленным в воду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0" y="2971800"/>
            <a:ext cx="17794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Сеткрезия (семейство Коммелиновые, родственное традесканциям)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личается большой декоративностью и разнообразием окраски. По размеру сеткрезии больше традесканций, у них крупнее побеги и листья, окраска листьев разная, в зависимости от видов бледно-зеленая, темно-зеленая, фиолетовая, светло-зеленая с белыми полосками; у одних видов листья и побеги густо покрыты мягким пушком, у других опущена часть листа – влагалищная или нижняя. Стебли растений разной длины: короткие, сильно ветвящиеся либо длинные, достигающие 1 метра. Цветут белыми или розовыми цветами. Растение требует светлого помещения. Уход за растением и размножение сеткрезий такие как у традесканций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6356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Хлорофитум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nastasiaScript"/>
              </a:rPr>
              <a:t>(семейство Лилейны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одина – Южная Африка. Широко распространенное неприхотливое ампельное растение с длинными ярко-зелеными линейными листьями, собранными в пучки. Существуют более декоративные разновидности хлорофитума: на их листьях есть яркие белые продольные полоски, расположенные по краю или в середине листа. У взрослого растения из середины пучка листьев вырастают длинные свисающие цветочные стрелки, на которых появляются невзрачные мелкие белые цветы, а затем детки (розетки листьев с воздушными корнями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Хлорофитум хорошо растет как в прохладных помещениях, так и в комнатах с более высокой температурой воздуха. Переносит затенение. Летом растение обильно поливают. Сажают хлорофитум в земляную смесь, состоящую из листовой перегнойной земли и песка в соотношении 2:2:1. Размножается растение отводками и молодыми листовыми розетками. Пестролистным разновидностям хлорофитумов требуется больше количества света; при недостатке света на листьях исчезает белая краска. Растение часто поражаются щитовой тл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42244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Примул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nastasiaScript"/>
              </a:rPr>
              <a:t>(семейство Первоцветны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на – Китай. Невысокое обильно и продолжительно цветущее растение с укороченным стеблем и длинночерешковыми листьями, собранными в прикорневую розетку. Листья светлые, почковидные, опушенные, с волнистым краем. Цветы крупные, простые, разнообразной окраски, чаще светло или темно розовой, иногда малиновой, собраны в соцветие зонти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мулы хорошо растут и цветут в светлом прохладном помещении; их иногда ставят в пространство между рамами окна, забирая оттуда лишь в сильные морозы. В этих условиях они особенно обильно цветут, причем окраска цветов становится густой и сочной. Цветут примулы всю зиму и до середины весны. Цветущие растения надо обильно поливать и удобрять; по окончании цветения поливку уменьшают. Пересаживают примулы ежегодно в легкую питательную почву, в которой нельзя добавлять свежий навоз, иначе растение заболеет и погибнет. Размножаются примулы делением растений при пересадк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20760" cy="21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371600" y="3166920"/>
            <a:ext cx="69343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22T09:25:4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